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075-1993-4A3C-8352-D39B04A4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94E-4B0B-4BBD-8979-3AFAEF80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0A8-23F6-4E1D-86BC-760F1DC7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D34-974A-4524-AB94-264E2808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40B-9827-4858-950F-F24A2BD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835-AFB3-4F6A-B240-E0558208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0D0-1594-4AB3-B701-DD16DFF3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719-A0B5-4E54-AE34-B48C713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B58-7CC7-4817-8D38-17AA5EBF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E83-BE74-4C33-953C-BF2BA02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CC2-FD11-4369-AEF8-65A528E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343-DAAE-4B8B-988B-1F28A3F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828A-6C7B-4608-A802-8054C9D52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600" y="0"/>
          <a:ext cx="6658200" cy="906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0"/>
                    <a:ext cx="6658200" cy="90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21:10:39Z</dcterms:created>
  <dc:creator>Joseph Pecorella</dc:creator>
  <dc:description/>
  <dc:language>en-US</dc:language>
  <cp:lastModifiedBy>Administrator</cp:lastModifiedBy>
  <cp:lastPrinted>2000-01-25T22:05:59Z</cp:lastPrinted>
  <dcterms:modified xsi:type="dcterms:W3CDTF">2005-04-07T13:20:12Z</dcterms:modified>
  <cp:revision>35</cp:revision>
  <dc:subject/>
  <dc:title>No Slide Title</dc:title>
</cp:coreProperties>
</file>